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DAF-12EF-4BCD-9310-02E36CAE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9F7-E30B-4F1D-9FF0-8C197803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565-BF59-491E-A339-C2E18DDC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D08-9FBB-47D8-B19C-227A3766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B043-95D0-4D9A-A322-CC006762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A763-249F-46B4-8739-1340B333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054-D76A-46AD-9E69-C389D4E7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D054-9CD7-40C0-8167-A0492C20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4E85-7633-4E94-8BBF-D517CAD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BA25-6105-4BEF-8F42-48103941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B08D-0577-4824-9BC0-7B01E34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248-D556-4FD7-98B0-898030A1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AE58-5C24-4312-8721-90FE86EC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A73C-B8FD-4F5B-A6E8-DE55748D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15AB-FEA8-47FC-A5E4-7BA6FB35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5A32-E958-48AD-BD4A-EE9085EF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E6B8-E847-42B7-A041-BA4E99D0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E61-C53D-4833-A68A-DF5B0CD0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9E8-39F4-43F2-8C18-FC256C1B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40D-2E11-4729-ADC1-8F1B2D30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02F-9EA1-4155-B62C-0E9B9AA1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983-E095-44E1-AD84-5EEE482A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B64-E1C3-4739-93EE-312D2452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31C-0E7D-47F2-8AB9-16EE3B4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83FD-D2FF-4C5C-B214-09C77F6F21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74CD-79B5-4776-8259-8AA7A9660D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cientific Not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viding with Scientific No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3.3 X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/ (2.3 X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3000 / 230 = 143.478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vide the Coefficie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.3/ 2.3 = 1.434783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tract the Expone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/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.4347823 X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43.478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1" dur="1" fill="hold"/>
                                  <p:tgtEl>
                                    <p:spTgt spid="104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viding with Scientific No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.6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/ (5.5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=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.1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/ (4.2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=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tive Ex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X10= 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X10X10 = 10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X10X10X10 = 10,0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gative Ex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/10 = 0.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/100 = 0.0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/1000 = 0.00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/10000 = 0.000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ientific No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 use the idea of exponents to make it easier to work with large and small number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0,000 = 1 X 1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50,000 = 2.5 X 1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unt places to the left until there is one number to the left of the decimal poin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30,000 =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,000 =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ientific Notation Contin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06 = 6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45 = 4.5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unt places to the right until there is one number to the left of the decimal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3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0025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9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ultiplying with Scientific No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d the Expon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0 X 1000 = 100,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ultiplying with Scientific Notati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2.3 X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(3.3 X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30 X 330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ultiply the Coeffici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.3 X 3.3 = 7.59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d the Expon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7.59 X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759,00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98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ultiplying with Scientific No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.6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X (5.5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=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.1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X (4.2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=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viding with Scientific Notatio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tract the Expon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/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000X 1000 = 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20:17:15Z</dcterms:created>
  <dc:creator>Ken Gardner</dc:creator>
  <dc:description/>
  <dc:language>en-US</dc:language>
  <cp:lastModifiedBy> </cp:lastModifiedBy>
  <dcterms:modified xsi:type="dcterms:W3CDTF">2007-11-11T16:59:03Z</dcterms:modified>
  <cp:revision>7</cp:revision>
  <dc:subject/>
  <dc:title>Slide 1</dc:title>
</cp:coreProperties>
</file>